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EA42-4514-4E32-82BA-76CBE26BA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0305-4094-486D-8940-ED5CF2F1E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92B5-77C5-45EF-B8DC-9B52492FE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BE31-8864-4F78-994E-7B3F6C5D6366}" type="datetime3">
              <a:rPr b="0" lang="en-US" sz="1200" spc="-1" strike="noStrike">
                <a:solidFill>
                  <a:srgbClr val="000000"/>
                </a:solidFill>
                <a:latin typeface="Arial"/>
              </a:rPr>
              <a:t>July 30,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9443-47B3-4DBF-A99C-66C9F15B8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6D1E-2490-4919-A6FC-2C47C66F5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92E23-E861-4AF8-9003-55C23403E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5D245-D6A4-4448-A442-E68D979CA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FD834-1E23-4526-8FD5-4F1BBD5E7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0A368-5E03-4047-82BC-C52C08154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76D61-2E53-40DE-8741-6F02ADE06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0D7037-7DED-4A6E-9AD5-042B4037BB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A4A0C-9A67-49C2-8AE1-331085BC1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56881-3B48-4319-AECB-C54D0BC7E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391AA-05A9-4523-BBE6-D927452DD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F9E32-2D2D-4218-B3F0-45F70FC63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F9B6E-5208-40A2-8485-2AAF8F44D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46B4D-7EDA-401C-8730-41022F81C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F25FB-96FE-4C8F-A1E3-1E2E16FFD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40525-18D6-4C77-8961-C16C99824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8523D-D2E2-4B05-AA5C-D00D3E9C9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82F45-07CF-4A0A-90C0-ED0E9CDD6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FEFD8A-14EB-4089-9C83-5020A3E3BC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033DF2-CD5B-4CA4-9C05-6947CF0098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A6237-2FF1-470D-A183-64452F517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15526-93F1-4271-BDED-02872D9A2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06B87-9C74-49DF-B187-58BB0F2EE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D1697-E878-443F-8BEA-0793DC37D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BBE45-FC6B-48BA-BCB4-C73441DF3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3106F-6A75-4A1D-80DC-5409C3288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A7B78-4894-4BFD-9C80-DC2AB344C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68C8-E2C9-427C-9E03-E19B2D2B36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D74E714-679F-41BA-B22C-925B1163FD7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FE9DC9A-3477-4B50-B630-003E63A5E2F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7AF0-CBF6-4BC2-B2E0-2347706A1A38}" type="datetime">
              <a:rPr b="0" lang="en-US" sz="1400" spc="-1" strike="noStrike">
                <a:solidFill>
                  <a:srgbClr val="000000"/>
                </a:solidFill>
                <a:latin typeface="Arial"/>
              </a:rPr>
              <a:t>07/30/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5848A-3B62-436D-BC4A-012F201B2B9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